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5E57-39C8-4E16-9113-DCEA2FE5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B4D1-90A4-45CB-81C4-A4AC373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587F-C1EE-44D5-824E-5EB82B77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CB11-46B3-4847-BFB5-A946FBE0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3FFA-F9DA-47E1-921D-4512B722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1A6F-6DDF-4092-804D-8F65D64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122-87FC-4F2E-B77C-A8A08848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62A9-8F88-40FA-A4EA-C67684E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938B-5772-47A5-B794-72BC6AD6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C2CE-1D72-4C20-B8DA-2943F339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6F08-0F84-4A2F-869A-CCCFED8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96E2-AC23-4D54-B14F-D35045F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C340-1F7F-4E54-9025-6BA7246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867-87EC-4CE7-A741-3191411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1E0E-84F9-4B10-9E05-30E9CF6B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3DB4-662B-4FCF-B6F2-6A008300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022A-77A7-4EB5-BFCC-CB52DDD5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AD98-1631-4A0B-A329-F231288F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72BB-A3B4-4EA1-ABC2-6ED0AD92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AF70-DA8E-4932-A2BE-9C84595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45A3-625D-4508-8DA4-F82F890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E2B1-8AB0-4FE4-ACBB-9F58C39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8B07-35F6-4247-B6F7-EAF59F4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758A-1EF1-4232-8B93-FDE62EA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DEA-C1EF-46EB-85E3-0682A0CA39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CB11-A31D-45D9-BD0E-2CBF274C5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nting Sli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rou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903240" y="1941480"/>
            <a:ext cx="68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PrintResults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PrintOptions.OutputType= ppPrintOutput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PrintOut From:= 1. To: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2720" y="3770280"/>
            <a:ext cx="77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s you can see from the code, we are going to print out slides 1 through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22:55Z</dcterms:created>
  <dc:creator>jnatale</dc:creator>
  <dc:description/>
  <dc:language>en-US</dc:language>
  <cp:lastModifiedBy>jnatale</cp:lastModifiedBy>
  <dcterms:modified xsi:type="dcterms:W3CDTF">2009-02-19T18:21:41Z</dcterms:modified>
  <cp:revision>2</cp:revision>
  <dc:subject/>
  <dc:title>Printing Slides</dc:title>
</cp:coreProperties>
</file>